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CD708-37B0-41BE-9162-EBCCCF80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62AB-FAAA-49C4-8991-96AE2BCB3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26E25-402B-4D01-BA00-36E8EF1DD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D8966-0561-4779-A4D2-6E07902FB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A33FF-E819-4FAD-9250-DE6F91444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43DFB-6317-4E0B-9393-361752B95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B4FAF-344E-48F6-AE4F-D8A6D6F2D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9F412-7789-47C9-B356-01C86FD2B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F3781-99C3-4EB4-87FE-2FFFF6599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DA0A3-5B04-40E5-BCCD-E4C8DF288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406F1-D648-40B1-9CB6-9402D5686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EEB22-87DC-4B02-9300-78B302A0B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AFF62-A765-4D83-A9AD-2C1D2BAF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67C0F-EB95-4548-8E14-AEA4784FD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77EA0-6843-473C-8ADA-F2828771F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72C34-AAFE-4F6C-BC11-1B338BFB7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C110B-B8F1-44AA-B540-BE7D13A00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7A0CED-D227-40CC-92A6-AEB3B48DF5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52CED-C01F-4742-8FB4-FF80CA4B2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31652-E7F7-4531-BE9C-96ACB4954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B7797-8356-4725-A6B1-67D79ABCA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5C469-79DE-42EF-83EA-E99D75DC1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491C-94C0-48F9-9B76-331F19B8E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35931-F263-41D5-915A-A918442CF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F301B-E9E6-462C-B87C-D32FE6C0D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8E544-3F5E-4736-8F5A-BC3A647F8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0DB8E-5AE9-47A1-A504-FB891E6AC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914AC-0476-4F95-80B0-C6EF405D1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6479EE-3B58-4A2F-8739-B3372140C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81293-D5A3-4483-89C7-3A4E958B69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AE9A22-125E-48A2-A250-2FE9A2D4A5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8E383-E21B-492B-B612-865DB59D7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0930F-07E4-46E0-A002-442AC89FC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00D41-56B5-46B9-A3DE-730ED05D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F332B-DD26-4F01-B261-AFE8D75BC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77843-E2EC-4D9E-BABA-5503B7A108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9BFE8-A1BA-464C-8807-180A203D1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C1F4A-C79E-446A-9E98-DC16B174A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E1404-755C-44BC-9C2A-14DCCDC54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60D5A-9332-43AA-934F-3673C81B1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322F8-DBC6-448C-80D5-2C599B093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EA416-905B-4C52-8C5C-85D19A3D53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BBE324-2F61-46FF-8BA3-9E0899D351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29FEF-73BC-40F0-8620-A6F5B835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556C4-96DF-43FB-8639-548E2115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878B-1693-4A8E-986C-3C1851BB0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09D72-AD5D-418E-A7AD-6BD6D4C6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82B5-1417-4CD9-9E6A-6DE9C5A77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BA77-EA5F-426B-8A64-63DDEDD21B6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00A1-14D9-4831-9DC5-DC3E13609F6F}"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A1E2-41AD-49AC-A76F-D3A61A57BB50}"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7CCC-9397-4B7C-96CF-09C14AEC973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2" descr=""/>
          <p:cNvPicPr/>
          <p:nvPr/>
        </p:nvPicPr>
        <p:blipFill>
          <a:blip r:embed="rId2"/>
          <a:srcRect l="16875" t="25502" r="15000" b="7502"/>
          <a:stretch/>
        </p:blipFill>
        <p:spPr>
          <a:xfrm>
            <a:off x="96840" y="1011240"/>
            <a:ext cx="8915400" cy="547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1"/>
          <p:cNvSpPr/>
          <p:nvPr/>
        </p:nvSpPr>
        <p:spPr>
          <a:xfrm>
            <a:off x="0" y="688680"/>
            <a:ext cx="9144000" cy="6025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HHS STEM TEAM’S TIER 1 GOALS</a:t>
            </a:r>
            <a:endParaRPr b="0" lang="en-US" sz="2800" spc="-1" strike="noStrike">
              <a:solidFill>
                <a:srgbClr val="000000"/>
              </a:solidFill>
              <a:latin typeface="Constanti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 </a:t>
            </a:r>
            <a:r>
              <a:rPr b="0" lang="en-US" sz="2400" spc="-1" strike="noStrike">
                <a:solidFill>
                  <a:srgbClr val="000000"/>
                </a:solidFill>
                <a:latin typeface="Arial Black"/>
                <a:ea typeface="Times New Roman"/>
              </a:rPr>
              <a:t>Establish paths of study for STEM endorsements</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Gauge faculty, community, and student interest</a:t>
            </a:r>
            <a:endParaRPr b="0" lang="en-US" sz="2400" spc="-1" strike="noStrike">
              <a:solidFill>
                <a:srgbClr val="000000"/>
              </a:solidFill>
              <a:latin typeface="Constantia"/>
            </a:endParaRPr>
          </a:p>
          <a:p>
            <a:pPr lvl="1" marL="457200">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rough surveys</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rite a mission statement and goals for the program</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ropose a timeline for implementation</a:t>
            </a: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dentify potential sources of funding and resources</a:t>
            </a:r>
            <a:endParaRPr b="0" lang="en-US" sz="2400" spc="-1" strike="noStrike">
              <a:solidFill>
                <a:srgbClr val="000000"/>
              </a:solidFill>
              <a:latin typeface="Constantia"/>
            </a:endParaRPr>
          </a:p>
          <a:p>
            <a:pPr lvl="1" marL="457200">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inkfinity/Verizon STEM seed money</a:t>
            </a:r>
            <a:endParaRPr b="0" lang="en-US" sz="2400" spc="-1" strike="noStrike">
              <a:solidFill>
                <a:srgbClr val="000000"/>
              </a:solidFill>
              <a:latin typeface="Constantia"/>
            </a:endParaRPr>
          </a:p>
          <a:p>
            <a:pPr lvl="1" marL="457200">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gional Business Partnerships</a:t>
            </a:r>
            <a:endParaRPr b="0" lang="en-US" sz="2400" spc="-1" strike="noStrike">
              <a:solidFill>
                <a:srgbClr val="000000"/>
              </a:solidFill>
              <a:latin typeface="Constanti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ilot a STEM program for HHS and BC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1"/>
          <p:cNvSpPr/>
          <p:nvPr/>
        </p:nvSpPr>
        <p:spPr>
          <a:xfrm>
            <a:off x="533520" y="914400"/>
            <a:ext cx="8076960" cy="50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ths of  Study That Are Currently Being Developed</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nors/AP Pre-Nursing</a:t>
            </a: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ealth and Life Sciences</a:t>
            </a: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nors/AP Pre-Engineering</a:t>
            </a:r>
            <a:endParaRPr b="0" lang="en-US" sz="32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E-Engineering CAD and Design</a:t>
            </a:r>
            <a:endParaRPr b="0" lang="en-US" sz="32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nkers and doers reacting organically collaborating for succes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40381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Inclusive program</a:t>
            </a:r>
            <a:br>
              <a:rPr sz="4600"/>
            </a:br>
            <a:r>
              <a:rPr b="0" lang="en-US" sz="4600" spc="-1" strike="noStrike">
                <a:solidFill>
                  <a:srgbClr val="04617b"/>
                </a:solidFill>
                <a:latin typeface="Calibri"/>
              </a:rPr>
              <a:t>Fine arts CTE Core Academics</a:t>
            </a:r>
            <a:br>
              <a:rPr sz="4600"/>
            </a:br>
            <a:br>
              <a:rPr sz="4600"/>
            </a:br>
            <a:r>
              <a:rPr b="0" lang="en-US" sz="4600" spc="-1" strike="noStrike">
                <a:solidFill>
                  <a:srgbClr val="04617b"/>
                </a:solidFill>
                <a:latin typeface="Calibri"/>
              </a:rPr>
              <a:t>Trans-disciplinary</a:t>
            </a:r>
            <a:br>
              <a:rPr sz="4600"/>
            </a:br>
            <a:br>
              <a:rPr sz="4600"/>
            </a:br>
            <a:r>
              <a:rPr b="0" lang="en-US" sz="4600" spc="-1" strike="noStrike">
                <a:solidFill>
                  <a:srgbClr val="04617b"/>
                </a:solidFill>
                <a:latin typeface="Calibri"/>
              </a:rPr>
              <a:t>Technology</a:t>
            </a:r>
            <a:br>
              <a:rPr sz="4600"/>
            </a:br>
            <a:br>
              <a:rPr sz="4600"/>
            </a:br>
            <a:r>
              <a:rPr b="0" lang="en-US" sz="4600" spc="-1" strike="noStrike">
                <a:solidFill>
                  <a:srgbClr val="04617b"/>
                </a:solidFill>
                <a:latin typeface="Calibri"/>
              </a:rPr>
              <a:t>Initail requests $ PD Early out time </a:t>
            </a:r>
            <a:br>
              <a:rPr sz="4600"/>
            </a:br>
            <a:br>
              <a:rPr sz="4600"/>
            </a:br>
            <a:r>
              <a:rPr b="0" lang="en-US" sz="4600" spc="-1" strike="noStrike">
                <a:solidFill>
                  <a:srgbClr val="04617b"/>
                </a:solidFill>
                <a:latin typeface="Calibri"/>
              </a:rPr>
              <a:t>Current sponsors****** logos </a:t>
            </a:r>
            <a:br>
              <a:rPr sz="4600"/>
            </a:br>
            <a:r>
              <a:rPr b="0" lang="en-US" sz="4600" spc="-1" strike="noStrike">
                <a:solidFill>
                  <a:srgbClr val="04617b"/>
                </a:solidFill>
                <a:latin typeface="Calibri"/>
              </a:rPr>
              <a:t>Roan state TVA BCEF Blount Memorial </a:t>
            </a:r>
            <a:endParaRPr b="0" lang="en-US" sz="4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8" name=""/>
          <p:cNvGraphicFramePr/>
          <p:nvPr/>
        </p:nvGraphicFramePr>
        <p:xfrm>
          <a:off x="152280" y="1703520"/>
          <a:ext cx="8920440" cy="4365360"/>
        </p:xfrm>
        <a:graphic>
          <a:graphicData uri="http://schemas.openxmlformats.org/drawingml/2006/table">
            <a:tbl>
              <a:tblPr/>
              <a:tblGrid>
                <a:gridCol w="1163880"/>
                <a:gridCol w="1090440"/>
                <a:gridCol w="1090800"/>
                <a:gridCol w="1090440"/>
                <a:gridCol w="1050840"/>
                <a:gridCol w="1144800"/>
                <a:gridCol w="1144440"/>
                <a:gridCol w="1144800"/>
              </a:tblGrid>
              <a:tr h="342720">
                <a:tc rowSpan="2">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areer Cluster</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gram of Stud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chnology Engineering Education Course Work</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 8</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1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a:t>
                      </a:r>
                      <a:r>
                        <a:rPr b="1" lang="en-US" sz="1200" spc="-1" strike="noStrike" baseline="30000">
                          <a:solidFill>
                            <a:srgbClr val="000000"/>
                          </a:solidFill>
                          <a:latin typeface="Arial"/>
                          <a:ea typeface="Times New Roman"/>
                        </a:rPr>
                        <a:t>th</a:t>
                      </a:r>
                      <a:r>
                        <a:rPr b="1" lang="en-US" sz="1200" spc="-1" strike="noStrike">
                          <a:solidFill>
                            <a:srgbClr val="000000"/>
                          </a:solidFill>
                          <a:latin typeface="Arial"/>
                          <a:ea typeface="Times New Roman"/>
                        </a:rPr>
                        <a:t> grade</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r>
              <a:tr h="549360">
                <a:tc rowSpan="6">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ience, Technology, Engineering, &amp; Mathematic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Engineering &amp;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5 - 6</a:t>
                      </a:r>
                      <a:r>
                        <a:rPr b="1" lang="en-US" sz="1200" spc="-1" strike="noStrike" baseline="30000">
                          <a:solidFill>
                            <a:srgbClr val="ff0000"/>
                          </a:solidFill>
                          <a:latin typeface="Arial"/>
                          <a:ea typeface="Times New Roman"/>
                        </a:rPr>
                        <a:t>th</a:t>
                      </a:r>
                      <a:r>
                        <a:rPr b="1" lang="en-US" sz="1200" spc="-1" strike="noStrike">
                          <a:solidFill>
                            <a:srgbClr val="ff0000"/>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Exploring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Foundations of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echnological Issue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Advanced Design Applic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Engineering Design (AP)</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7</a:t>
                      </a:r>
                      <a:r>
                        <a:rPr b="1" lang="en-US" sz="1200" spc="-1" strike="noStrike" baseline="30000">
                          <a:solidFill>
                            <a:srgbClr val="ff0000"/>
                          </a:solidFill>
                          <a:latin typeface="Arial"/>
                          <a:ea typeface="Times New Roman"/>
                        </a:rPr>
                        <a:t>th</a:t>
                      </a:r>
                      <a:r>
                        <a:rPr b="1" lang="en-US" sz="1200" spc="-1" strike="noStrike">
                          <a:solidFill>
                            <a:srgbClr val="ff0000"/>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Inventions and Innov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479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8</a:t>
                      </a:r>
                      <a:r>
                        <a:rPr b="1" lang="en-US" sz="1200" spc="-1" strike="noStrike" baseline="30000">
                          <a:solidFill>
                            <a:srgbClr val="ff0000"/>
                          </a:solidFill>
                          <a:latin typeface="Arial"/>
                          <a:ea typeface="Times New Roman"/>
                        </a:rPr>
                        <a:t>th</a:t>
                      </a:r>
                      <a:r>
                        <a:rPr b="1" lang="en-US" sz="1200" spc="-1" strike="noStrike">
                          <a:solidFill>
                            <a:srgbClr val="ff0000"/>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echnological System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4936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rowSpan="3">
                  <a:txBody>
                    <a:bodyPr lIns="85680" rIns="85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Science and Mathematic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5 - 6</a:t>
                      </a:r>
                      <a:r>
                        <a:rPr b="1" lang="en-US" sz="1200" spc="-1" strike="noStrike" baseline="30000">
                          <a:solidFill>
                            <a:srgbClr val="003366"/>
                          </a:solidFill>
                          <a:latin typeface="Arial"/>
                          <a:ea typeface="Times New Roman"/>
                        </a:rPr>
                        <a:t>th</a:t>
                      </a:r>
                      <a:r>
                        <a:rPr b="1" lang="en-US" sz="1200" spc="-1" strike="noStrike">
                          <a:solidFill>
                            <a:srgbClr val="003366"/>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Exploring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Foundations of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Technological Issue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Advanced Technological Applic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Problems and Solutions in Technology</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7</a:t>
                      </a:r>
                      <a:r>
                        <a:rPr b="1" lang="en-US" sz="1200" spc="-1" strike="noStrike" baseline="30000">
                          <a:solidFill>
                            <a:srgbClr val="003366"/>
                          </a:solidFill>
                          <a:latin typeface="Arial"/>
                          <a:ea typeface="Times New Roman"/>
                        </a:rPr>
                        <a:t>th</a:t>
                      </a:r>
                      <a:r>
                        <a:rPr b="1" lang="en-US" sz="1200" spc="-1" strike="noStrike">
                          <a:solidFill>
                            <a:srgbClr val="003366"/>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Inventions and Innovation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5479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85680" rIns="85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8</a:t>
                      </a:r>
                      <a:r>
                        <a:rPr b="1" lang="en-US" sz="1200" spc="-1" strike="noStrike" baseline="30000">
                          <a:solidFill>
                            <a:srgbClr val="003366"/>
                          </a:solidFill>
                          <a:latin typeface="Arial"/>
                          <a:ea typeface="Times New Roman"/>
                        </a:rPr>
                        <a:t>th</a:t>
                      </a:r>
                      <a:r>
                        <a:rPr b="1" lang="en-US" sz="1200" spc="-1" strike="noStrike">
                          <a:solidFill>
                            <a:srgbClr val="003366"/>
                          </a:solidFill>
                          <a:latin typeface="Arial"/>
                          <a:ea typeface="Times New Roman"/>
                        </a:rPr>
                        <a:t> Grade</a:t>
                      </a:r>
                      <a:endParaRPr b="0" lang="en-US" sz="1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Technological Systems</a:t>
                      </a:r>
                      <a:endParaRPr b="0" lang="en-US" sz="1200" spc="-1" strike="noStrike">
                        <a:solidFill>
                          <a:srgbClr val="000000"/>
                        </a:solidFill>
                        <a:latin typeface="Constantia"/>
                      </a:endParaRPr>
                    </a:p>
                  </a:txBody>
                  <a:tcPr anchor="ctr" marL="85680" marR="856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bl>
          </a:graphicData>
        </a:graphic>
      </p:graphicFrame>
      <p:sp>
        <p:nvSpPr>
          <p:cNvPr id="209" name="Rectangle 1"/>
          <p:cNvSpPr/>
          <p:nvPr/>
        </p:nvSpPr>
        <p:spPr>
          <a:xfrm>
            <a:off x="0" y="70488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ea typeface="Times New Roman"/>
              </a:rPr>
              <a:t>Technology Engineering Education</a:t>
            </a:r>
            <a:endParaRPr b="0" lang="en-US" sz="24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ea typeface="Times New Roman"/>
              </a:rPr>
              <a:t>STEM Cluster</a:t>
            </a: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0" name=""/>
          <p:cNvGraphicFramePr/>
          <p:nvPr/>
        </p:nvGraphicFramePr>
        <p:xfrm>
          <a:off x="173160" y="1773360"/>
          <a:ext cx="8746920" cy="3504960"/>
        </p:xfrm>
        <a:graphic>
          <a:graphicData uri="http://schemas.openxmlformats.org/drawingml/2006/table">
            <a:tbl>
              <a:tblPr/>
              <a:tblGrid>
                <a:gridCol w="955440"/>
                <a:gridCol w="955800"/>
                <a:gridCol w="955800"/>
                <a:gridCol w="957240"/>
                <a:gridCol w="939600"/>
                <a:gridCol w="1035000"/>
                <a:gridCol w="1035360"/>
                <a:gridCol w="955440"/>
                <a:gridCol w="957240"/>
              </a:tblGrid>
              <a:tr h="218880">
                <a:tc gridSpan="9">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nors/AP   PRE-Engineering</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1</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2</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3</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4</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5</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6</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7</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8</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r>
              <a:tr h="2188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h</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om.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A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B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b &amp; St.</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Cal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lc.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 Calc.</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glish</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V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43812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cience</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io I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m.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s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ience Researc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nior Scienc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43812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 Studies</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 Geo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 Hist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 Hist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con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t 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657360">
                <a:tc rowSpan="2">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Application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ciples of Engineering</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EM Capston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888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llnes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 P. Fin</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Art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ectives</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188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w="2880">
                      <a:solidFill>
                        <a:srgbClr val="000000"/>
                      </a:solidFill>
                    </a:lnT>
                    <a:lnB>
                      <a:noFill/>
                    </a:lnB>
                    <a:noFill/>
                  </a:tcPr>
                </a:tc>
                <a:tc gridSpan="7" rowSpan="3">
                  <a:txBody>
                    <a:bodyPr lIns="10080" rIns="10080" tIns="1008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P English may replace Honors English,  Can CAD satisfy Comp Apps?  Can CAD2 satisy F.Arts?  Do we need to include Trig/Adv.Alg?  Eng.II H and W.Hist H are taught during the same semester.</a:t>
                      </a:r>
                      <a:endParaRPr b="0" lang="en-US" sz="1300" spc="-1" strike="noStrike">
                        <a:solidFill>
                          <a:srgbClr val="000000"/>
                        </a:solidFill>
                        <a:latin typeface="Constantia"/>
                      </a:endParaRPr>
                    </a:p>
                  </a:txBody>
                  <a:tcPr anchor="t" marL="10080" marR="10080">
                    <a:lnL>
                      <a:noFill/>
                    </a:lnL>
                    <a:lnR>
                      <a:noFill/>
                    </a:lnR>
                    <a:lnT w="2880">
                      <a:solidFill>
                        <a:srgbClr val="000000"/>
                      </a:solidFill>
                    </a:lnT>
                    <a:lnB>
                      <a:noFill/>
                    </a:lnB>
                    <a:no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w="2880">
                      <a:solidFill>
                        <a:srgbClr val="000000"/>
                      </a:solidFill>
                    </a:lnT>
                    <a:lnB>
                      <a:noFill/>
                    </a:lnB>
                    <a:noFill/>
                  </a:tcPr>
                </a:tc>
              </a:tr>
              <a:tr h="21924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r>
              <a:tr h="2188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c vMerge="1" gridSpan="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b" marL="10080" marR="10080">
                    <a:lnL>
                      <a:noFill/>
                    </a:lnL>
                    <a:lnR>
                      <a:noFill/>
                    </a:lnR>
                    <a:lnT>
                      <a:noFill/>
                    </a:lnT>
                    <a:lnB>
                      <a:noFill/>
                    </a:lnB>
                    <a:noFill/>
                  </a:tcPr>
                </a:tc>
              </a:tr>
            </a:tbl>
          </a:graphicData>
        </a:graphic>
      </p:graphicFrame>
      <p:sp>
        <p:nvSpPr>
          <p:cNvPr id="211" name="TextBox 3"/>
          <p:cNvSpPr/>
          <p:nvPr/>
        </p:nvSpPr>
        <p:spPr>
          <a:xfrm>
            <a:off x="685800" y="9144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onors/AP   PRE-Engineering Pathwa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2" name=""/>
          <p:cNvGraphicFramePr/>
          <p:nvPr/>
        </p:nvGraphicFramePr>
        <p:xfrm>
          <a:off x="111240" y="1828800"/>
          <a:ext cx="8872560" cy="2666880"/>
        </p:xfrm>
        <a:graphic>
          <a:graphicData uri="http://schemas.openxmlformats.org/drawingml/2006/table">
            <a:tbl>
              <a:tblPr/>
              <a:tblGrid>
                <a:gridCol w="969840"/>
                <a:gridCol w="969840"/>
                <a:gridCol w="968400"/>
                <a:gridCol w="970200"/>
                <a:gridCol w="954000"/>
                <a:gridCol w="1050840"/>
                <a:gridCol w="1049400"/>
                <a:gridCol w="969840"/>
                <a:gridCol w="970200"/>
              </a:tblGrid>
              <a:tr h="222120">
                <a:tc gridSpan="9">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e-Engineering CAD and DESIGN</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22248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1</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2</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3</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4</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5</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6</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7</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ester 8</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B</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ometry</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g IIB</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te Mat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glis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 IV</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2248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cienc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io I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 Sc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m A</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m B</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44460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 Studie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ld Geography</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D</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 History</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ience Research</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conomic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666720">
                <a:tc rowSpan="2">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Application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Lang II</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ciples of Engineering</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EM Capstone</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vanced CAD</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cc99ff"/>
                    </a:solidFill>
                  </a:tcPr>
                </a:tc>
              </a:tr>
              <a:tr h="2221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llnes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 P. Fin</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 Art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ectives</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solidFill>
                      <a:srgbClr val="eeece1"/>
                    </a:solid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Constantia"/>
                      </a:endParaRPr>
                    </a:p>
                  </a:txBody>
                  <a:tcPr anchor="ctr" marL="10080" marR="10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13" name="TextBox 2"/>
          <p:cNvSpPr/>
          <p:nvPr/>
        </p:nvSpPr>
        <p:spPr>
          <a:xfrm>
            <a:off x="304920" y="10764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PRE-Engineering CAD and Design Pathwa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TextBox 1"/>
          <p:cNvSpPr/>
          <p:nvPr/>
        </p:nvSpPr>
        <p:spPr>
          <a:xfrm>
            <a:off x="304920" y="990720"/>
            <a:ext cx="8534160" cy="80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uilding The Capacity</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dvanced Placement Courses Being Offered at HHS This Year</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English III</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AP Calculus AB</a:t>
            </a: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English IV</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AP Calculus BC</a:t>
            </a: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US History</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AP Biology</a:t>
            </a: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 Probability and Statistics</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1"/>
          <p:cNvSpPr/>
          <p:nvPr/>
        </p:nvSpPr>
        <p:spPr>
          <a:xfrm>
            <a:off x="0" y="1283760"/>
            <a:ext cx="9144000" cy="381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Scientific Research:  Course Number: 3295</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is class will focus on original research to be done in the course of the semester by both the class as a whole and the individual student.  We will focus on correct ways to do research as well as ethical ramifications of research practices.  There will be a concluding presentation that will be made by each student about the research that they completed in front of peers and faculty.  Students will also be encouraged to take part in science research competitions for scholarship mone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Title 1" descr=""/>
          <p:cNvPicPr/>
          <p:nvPr/>
        </p:nvPicPr>
        <p:blipFill>
          <a:blip r:embed="rId2"/>
          <a:stretch/>
        </p:blipFill>
        <p:spPr>
          <a:xfrm>
            <a:off x="-133200" y="987480"/>
            <a:ext cx="9429480" cy="39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19320" y="837720"/>
            <a:ext cx="6400800" cy="5410440"/>
          </a:xfrm>
          <a:prstGeom prst="rect">
            <a:avLst/>
          </a:prstGeom>
          <a:noFill/>
          <a:ln w="0">
            <a:noFill/>
          </a:ln>
        </p:spPr>
        <p:txBody>
          <a:bodyPr lIns="0" rIns="1836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LOUNT COUNTY SCHOOLS</a:t>
            </a:r>
            <a:endParaRPr b="0" lang="en-US" sz="4000" spc="-1" strike="noStrike">
              <a:solidFill>
                <a:srgbClr val="ffffff"/>
              </a:solidFill>
              <a:latin typeface="Constanti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VISION: </a:t>
            </a:r>
            <a:endParaRPr b="0" lang="en-US" sz="4000" spc="-1" strike="noStrike">
              <a:solidFill>
                <a:srgbClr val="ffffff"/>
              </a:solidFill>
              <a:latin typeface="Constant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ducational Excellence for All</a:t>
            </a:r>
            <a:endParaRPr b="0" lang="en-US" sz="4400" spc="-1" strike="noStrike">
              <a:solidFill>
                <a:srgbClr val="ffffff"/>
              </a:solidFill>
              <a:latin typeface="Constanti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udents!</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TextBox 5"/>
          <p:cNvSpPr/>
          <p:nvPr/>
        </p:nvSpPr>
        <p:spPr>
          <a:xfrm>
            <a:off x="228600" y="914400"/>
            <a:ext cx="8686800" cy="533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BLOUNT COUNTY SCHOOLS</a:t>
            </a:r>
            <a:endParaRPr b="0" lang="en-US" sz="4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Mission: </a:t>
            </a:r>
            <a:endParaRPr b="0" lang="en-US" sz="40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 Maximize the Academic Potential of Every Child in a Safe and Personalized Environment. The BCS will graduate students who are college and career ready and prepared to meet the challenges of the 21st Century workplace.</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304920" y="761760"/>
            <a:ext cx="8534160" cy="5638680"/>
          </a:xfrm>
          <a:prstGeom prst="rect">
            <a:avLst/>
          </a:prstGeom>
          <a:noFill/>
          <a:ln w="0">
            <a:noFill/>
          </a:ln>
        </p:spPr>
        <p:txBody>
          <a:bodyPr lIns="0" rIns="1836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 </a:t>
            </a:r>
            <a:r>
              <a:rPr b="1" lang="en-US" sz="4000" spc="-1" strike="noStrike">
                <a:solidFill>
                  <a:srgbClr val="ffffff"/>
                </a:solidFill>
                <a:latin typeface="Arial Black"/>
              </a:rPr>
              <a:t>Focus on math and science for all students in all grades. </a:t>
            </a:r>
            <a:endParaRPr b="0" lang="en-US" sz="4000" spc="-1" strike="noStrike">
              <a:solidFill>
                <a:srgbClr val="ffffff"/>
              </a:solidFill>
              <a:latin typeface="Constant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th and science need to be more coordinated and integrated for maximizing instructional time and producing positive results. Through our math and science curriculum, we need to develop the ability to analyze, synthesize and solve problems from which there are no routine solution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Title 1" descr=""/>
          <p:cNvPicPr/>
          <p:nvPr/>
        </p:nvPicPr>
        <p:blipFill>
          <a:blip r:embed="rId2"/>
          <a:stretch/>
        </p:blipFill>
        <p:spPr>
          <a:xfrm>
            <a:off x="92160" y="19080"/>
            <a:ext cx="9058320" cy="59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1" name=""/>
          <p:cNvGraphicFramePr/>
          <p:nvPr/>
        </p:nvGraphicFramePr>
        <p:xfrm>
          <a:off x="152280" y="1752480"/>
          <a:ext cx="8790120" cy="4300560"/>
        </p:xfrm>
        <a:graphic>
          <a:graphicData uri="http://schemas.openxmlformats.org/drawingml/2006/table">
            <a:tbl>
              <a:tblPr/>
              <a:tblGrid>
                <a:gridCol w="1357560"/>
                <a:gridCol w="7432560"/>
              </a:tblGrid>
              <a:tr h="182880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o</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Mark Andrews, Mary Cooper, Sam Warwick, Mark Rowland, Justin Lane, Kendall Terry, Julie Bell, LaVada Yazel, Lisa Collins, Jared Smith, Colleen Mattison, Shane Rewis, Brad </a:t>
                      </a:r>
                      <a:r>
                        <a:rPr b="0" lang="en-US" sz="2400" spc="-1" strike="noStrike">
                          <a:solidFill>
                            <a:srgbClr val="000000"/>
                          </a:solidFill>
                          <a:latin typeface="Arial Black"/>
                        </a:rPr>
                        <a:t>Rasmussen</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at</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TEM</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r h="65268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en</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Bi-monthly meetings</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r h="1060200">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Where</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c>
                  <a:txBody>
                    <a:bodyPr lIns="107280" rIns="107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HHS STEM Center</a:t>
                      </a:r>
                      <a:endParaRPr b="0" lang="en-US" sz="2400" spc="-1" strike="noStrike">
                        <a:solidFill>
                          <a:srgbClr val="000000"/>
                        </a:solidFill>
                        <a:latin typeface="Constantia"/>
                      </a:endParaRPr>
                    </a:p>
                  </a:txBody>
                  <a:tcPr anchor="ctr" marL="107280" marR="107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Rectangle 1"/>
          <p:cNvSpPr/>
          <p:nvPr/>
        </p:nvSpPr>
        <p:spPr>
          <a:xfrm>
            <a:off x="0" y="795960"/>
            <a:ext cx="9144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HHS STEM TEAM</a:t>
            </a:r>
            <a:endParaRPr b="0" lang="en-US" sz="3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1"/>
          <p:cNvSpPr/>
          <p:nvPr/>
        </p:nvSpPr>
        <p:spPr>
          <a:xfrm>
            <a:off x="146160" y="990720"/>
            <a:ext cx="8915400" cy="50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EM PROGRAM MISSION STATEMENT</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insure our graduates are critical thinkers who are able to solve non-routine problems in a globally competitive society.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y will have developed 21st century technology and communication skills and demonstrated self-direction and social responsibility.</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1"/>
          <p:cNvSpPr/>
          <p:nvPr/>
        </p:nvSpPr>
        <p:spPr>
          <a:xfrm>
            <a:off x="0" y="1143000"/>
            <a:ext cx="9144000" cy="533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he BCS STEM Program will provide </a:t>
            </a:r>
            <a:r>
              <a:rPr b="0" lang="en-US" sz="3200" spc="-1" strike="noStrike" u="sng">
                <a:solidFill>
                  <a:srgbClr val="000000"/>
                </a:solidFill>
                <a:uFillTx/>
                <a:latin typeface="Arial Black"/>
              </a:rPr>
              <a:t>ALL</a:t>
            </a:r>
            <a:r>
              <a:rPr b="0" lang="en-US" sz="3200" spc="-1" strike="noStrike">
                <a:solidFill>
                  <a:srgbClr val="000000"/>
                </a:solidFill>
                <a:latin typeface="Arial Black"/>
              </a:rPr>
              <a:t> Blount County students with:</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lid STEM coursework foundations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ve problem solving Experiences</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arch and Internship Opportunities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ject-based learning</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Challenge to Solve Non-routine Problem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0T23:41:10Z</dcterms:created>
  <dc:creator>Mark Andrews</dc:creator>
  <dc:description/>
  <dc:language>en-US</dc:language>
  <cp:lastModifiedBy>hhs student</cp:lastModifiedBy>
  <dcterms:modified xsi:type="dcterms:W3CDTF">2011-09-08T14:18:09Z</dcterms:modified>
  <cp:revision>46</cp:revision>
  <dc:subject/>
  <dc:title>Slide 1</dc:title>
</cp:coreProperties>
</file>